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5CD-9937-4AC1-97C6-4CDE3E68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B80-9448-4537-9687-30473407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5BD-A7FB-4EC2-B272-7EDDCC77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868-B23A-4F8E-B9A5-18673FA3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863-86CD-4BB7-B83C-75E2F776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0A4-8B51-4B19-AA09-8F79B0FB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4A0-5FD4-4C61-A8CF-29EC255E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DDD-A1AA-481B-9B31-D0E0E98F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D7C-6EEA-4F86-A804-1B9897CF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C35-AC13-4A53-8271-7FC0F6C3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1D3-C2B6-41C9-B98D-F055A44F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789-9C26-41A7-9705-22EEFFE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512A-203D-4408-A32F-7160EAE73D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0B Line segments and step function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Discrete and continuou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A variable that can take all values (e.g. time, t = 11.3 s or height = 183.3 cm) is called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continuous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A variable that cannot take all values (e.g. the number of people in this room = 26) is called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discrete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Real-life situations involving continuous data can often be modelled by line segment graphs or step graphs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If the data are discrete, the graph consists of points not joined together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B, Q.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B, Q.2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B, Q.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B, Q.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B, Q.5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B, Q. 7, 10, 11, 12, 1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1:14:23Z</dcterms:created>
  <dc:creator>08843474</dc:creator>
  <dc:description/>
  <dc:language>en-US</dc:language>
  <cp:lastModifiedBy>08843474</cp:lastModifiedBy>
  <dcterms:modified xsi:type="dcterms:W3CDTF">2011-06-02T01:24:29Z</dcterms:modified>
  <cp:revision>1</cp:revision>
  <dc:subject/>
  <dc:title>10B Line segments and step functions</dc:title>
</cp:coreProperties>
</file>